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Musica%20Menu%20Popu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EDD-910B-47F1-95E8-1221C190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A8C-30DF-44B9-82F3-E51BE11B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293-12F8-45EC-87A7-D7958C9A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A00-604F-42F2-A42E-EBA6BC96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6BD-01D0-4379-A818-F8B2C58A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561-21EB-450C-B97E-26BCC72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D82-A784-49AF-9E70-F45BF5F0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B94-8DDD-4DD7-BBBF-1E883FFB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42C-E6B3-47DE-9F98-582F5E17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BCD-894E-408E-8FB4-B767522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861-3F28-4B34-8CC1-60344585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E23-C9C6-4C27-A600-984C6C06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7276-024C-4CEC-88A5-B326839EC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Musica%20Menu%20Popu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685800"/>
            <a:ext cx="41148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add you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wn text and pi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to each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r use Insert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lete this slide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’ve fin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09480"/>
            <a:ext cx="40384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py slide 3 as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s as you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45720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33440" y="1295280"/>
            <a:ext cx="3233160" cy="82512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Book Ti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5640" y="5334120"/>
            <a:ext cx="2545920" cy="5205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By You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  <a:hlinkClick r:id="rId3"/>
          </p:cNvPr>
          <p:cNvSpPr/>
          <p:nvPr/>
        </p:nvSpPr>
        <p:spPr>
          <a:xfrm>
            <a:off x="800100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685800"/>
            <a:ext cx="41148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45720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33520" y="609480"/>
            <a:ext cx="4038480" cy="54104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108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609480"/>
            <a:ext cx="35049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r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harterp</cp:lastModifiedBy>
  <dcterms:modified xsi:type="dcterms:W3CDTF">2008-01-08T16:28:19Z</dcterms:modified>
  <cp:revision>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